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494-C701-4485-814C-B7160011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DA6-1BC6-443A-AB85-1622F4F9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E36-0E61-430A-BCE3-1D38B30B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99E9-A45E-4025-9C44-185736D6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0157-BCB2-4553-9B62-B82C74B1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9079-60C7-4521-97B8-882444E3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D61C-E5BC-4891-9806-66791E12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2EC1-6229-48DA-829B-5DA2732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E2E6-8359-40C0-8202-9E6240F5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98D-5305-4DD4-B00D-DA93949A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0ED5-2598-4464-8D6B-75FC2645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70A-BCC3-4506-8599-BB975D79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069A-B888-4739-943D-BE3052CC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A830-CBBD-44AA-82C6-63FABB20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21E32-8722-43E7-BFE4-CF9C4E7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42F5-0E45-4836-A5D2-5B57FAB9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8D8D-BB71-476F-A7DE-619DEE98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4C6C-9ECE-4C68-84D3-3785D16A3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3D38-1798-42D8-AF5D-03FD07D4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9CDC9-22A2-4B6F-9582-7755ECBB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4C5E4-0ECC-431E-BCDD-B4990FB4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ECA9-A153-499C-917E-BC3E3F50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E4B6-97B8-406E-9E18-07EDE68E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164C9-07B1-4F8A-B21E-869E7641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1E783-03D5-406B-8C4B-28391517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55BE9-9EA6-4584-9D1F-06DBC87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C827-6769-4402-9C54-4CEE4D5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EAB1-840D-449E-AF85-306D305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F0EAC-B9D1-473A-BA23-A5C35757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A64D5-D22E-451B-A3C0-36B35234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8BDA-FBA3-4DC4-BA78-46A48209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955B-BB77-42C8-919E-03E6EA0E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8118-8DC3-4D08-B2AE-08848DB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399-02A1-492E-B8F7-150A1929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DFC1-741D-4048-9734-474CA0DF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36C1-7CC7-4196-B26C-6FE26A66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D82D3-5992-4051-863E-91133682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D9C65-AD55-4478-AF81-9BEF78E7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2DC7E-4C2B-4514-9193-6AB4B48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8C04-91A3-4D2D-85D2-08AD81E3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F0D06-63AD-4A6E-830E-B21FCFAC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260F-8D24-4DDD-AF86-101E4D3B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A802F-E2B3-46B9-941A-4A583368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FD76-2196-4F3C-B9BC-79A7D14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6025-563B-4590-908C-5516706E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87D-AD58-4982-B8A5-0C33C316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7ED-B883-49A6-9D21-17C8F59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7B0-AF99-4C7F-B3FC-D4933E48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A09B-113E-45C6-92D9-872E903FC79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03F8-FC21-4368-A571-1E7D0DF68D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DC4B-B7BF-4488-9C41-09C56778DDA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E6D3-F350-4C31-959A-28F7DB58B2F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31 дека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EF30-0D1C-4B1F-978A-A40423B95F7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69 1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99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3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497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8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11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9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2-12T09:26:00Z</cp:lastPrinted>
  <dcterms:modified xsi:type="dcterms:W3CDTF">2019-12-12T09:26:08Z</dcterms:modified>
  <cp:revision>7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